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D65-D68B-4948-97DC-84801751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603-737A-4CBA-89AE-51004EA2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815F-6F7A-47F3-BE4F-16162A0D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96AD-A737-4A95-86C1-64E6F78C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C5A-4EEA-447A-8620-1EF4111E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624-C07C-4002-B2E4-F9E79321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CDB8-DD21-4251-A277-DE365800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710-5450-42CB-B350-116C9741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05E-EC46-4097-8717-4F0B4850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027-F148-42A1-8345-6851ED27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AA47-311C-49DC-96EF-AFDB740F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484-DA4D-470F-9D77-D07959BB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77F8-68D0-49EC-8E99-061F7663C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www.etoys.com/Fisher-Price-Elmo-Live/PID/4827261/ctid/17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6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Bodoni MT Black"/>
              </a:rPr>
              <a:t>The Heimlich Maneu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e Gonzal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ways remember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the expulsion of the object, keep the victim still and get medical hel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cations can arise from the incident or from the measures that were ta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Not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nformation is not intended to be a substitute for professional medical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censed physician should be consulted for diagnosis and treatment of all medical condi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’s never a warning before a person gets an object caught in their throat and starts cho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4647960" cy="331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king is the body’s way of trying to remove a foreign objec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4724280" cy="3375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Cho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ing (especially eating and laughing at the same time, eating too fast, and failing to chew food well enough.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 and drug consumption (even a small amount affects awareness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uma to the head and face (bleeding can cause choking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objects swallowed by children (beads, toy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Cho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Fall Meals"/>
          <p:cNvPicPr/>
          <p:nvPr/>
        </p:nvPicPr>
        <p:blipFill>
          <a:blip r:embed="rId2"/>
          <a:stretch/>
        </p:blipFill>
        <p:spPr>
          <a:xfrm>
            <a:off x="5410080" y="167652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380988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k of Oxyg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oxygen the brain can begin to die within 4 to 6 minutes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earning the Heimlich Maneuver-a simple life-saving technique-you may literally save the life of a choking victi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mlich Maneu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imlich Maneuver is the most effective way to remove something stuck in an adult’s or older child’s throat. (Note: another technique is used for an infant, small child, or when someone becomes unconscious.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lifts the diaphragm and forces enough air from the lungs to remove the obstru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Do I Use The Heimlich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is grabbing the throat with the hand (the universal sign for choking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otice they are gagg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ear a weak ineffective cough, noisy breathing, or high-pitched soun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is starting to look bl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4476600"/>
            <a:ext cx="3333600" cy="2381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4476600"/>
            <a:ext cx="3333600" cy="2381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The Heimli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behind the choking person and wrap your arm around his or her wai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humb side of the fist against middle of person’s abdomen just above the navel and well below the rib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 your fist into the person’s abdomen with quick, upward thru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abdominal thrusts until the object is coughed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59:51Z</dcterms:created>
  <dc:creator>004student</dc:creator>
  <dc:description/>
  <dc:language>en-US</dc:language>
  <cp:lastModifiedBy>004student</cp:lastModifiedBy>
  <dcterms:modified xsi:type="dcterms:W3CDTF">2008-10-28T16:00:12Z</dcterms:modified>
  <cp:revision>4</cp:revision>
  <dc:subject/>
  <dc:title>The Heimlich Maneuver</dc:title>
</cp:coreProperties>
</file>